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703F-66E9-4621-A9F3-F2CD80020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09DA-6FAE-4C13-A3F5-75320929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9DB0-4157-42D6-AB59-E251F135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23A8-FEB6-4846-AD6D-3A9382689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53F1-52B5-4FE5-A4C7-FC459BF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DA01-948F-4B47-B9AB-7E60EAB4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BA24-FF7A-4D2F-97DA-D56AB355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FCFB2-1438-4129-BF76-0EB62B73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5439-BADE-4CCA-B4DD-D6F94C51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96D5-FAEA-47B2-B962-8F4EDDCF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36E1-09EC-4322-9C99-56832379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4683-D9A7-4138-B452-5C38424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0" cy="144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E3900CCC-EA4D-4963-9FF5-87597FC11DF2}" type="datetime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fld id="{766FBB2B-B7B1-47E9-9F5E-F01B351BB35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"/>
          <p:cNvSpPr/>
          <p:nvPr/>
        </p:nvSpPr>
        <p:spPr>
          <a:xfrm>
            <a:off x="95400" y="3809880"/>
            <a:ext cx="5715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ntroduction to</a:t>
            </a:r>
            <a:br>
              <a:rPr sz="28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</a:rPr>
              <a:t>PHP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5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 is PHPPower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400" y="1238400"/>
            <a:ext cx="8858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class lib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Written in 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Representing a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upports writing to different fil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What's the poi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400" y="1238400"/>
            <a:ext cx="8858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Generate slide d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Represent busin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how a family slid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xport these to different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PowerPoint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eriali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23652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... (more to come)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5400" y="95400"/>
            <a:ext cx="2352600" cy="342720"/>
          </a:xfrm>
          <a:prstGeom prst="rect">
            <a:avLst/>
          </a:prstGeom>
          <a:ln w="0">
            <a:noFill/>
          </a:ln>
          <a:effectLst>
            <a:outerShdw dist="95204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95400" y="476280"/>
            <a:ext cx="88581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Need more inf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1238400"/>
            <a:ext cx="885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heck the project site on GitHub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