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AD4A-22DB-4FA2-8A68-E74C4EC1E2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36FEF-26E1-4F74-949D-9B905178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5A4D-F0A7-42A4-8E82-1DF6B89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717D-BB73-4E7F-B82C-C62F4306D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B5F8-19D2-4DB3-92EE-A4D6523E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DA87-E1E1-495C-B8FD-A35A6AD3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3804-9F46-432E-9765-5C5CD3E2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E700-F655-494E-8CB5-C37C9E51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C112-64E7-4038-B9B9-644202BA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8B81-DFA1-49AC-9FF8-E0442B03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3A5C-BF7E-43B2-99E5-BD01DE6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0E07-AAD6-4D34-9BD2-A896219D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96AF3372-6ED9-4108-82F3-6D677B39FFC9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2B770375-5FDF-4D78-A43F-AC742D40118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1619280" y="1714680"/>
            <a:ext cx="571500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76280" bIns="47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71468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5524560"/>
            <a:ext cx="5715000" cy="1440"/>
          </a:xfrm>
          <a:prstGeom prst="line">
            <a:avLst/>
          </a:prstGeom>
          <a:ln w="12600">
            <a:solidFill>
              <a:srgbClr val="e06b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